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C20-EE6C-4229-AD78-52F30722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CA3-4D90-4C70-95AD-3C3E2003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7FB-5C09-48CB-8166-09C736A2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224-BE38-476C-8A68-211F1B6D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F71-07A5-4D58-B53E-E21A5DF4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0C4-F900-4771-858C-E9F86210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0D0-061C-493E-B097-7E69CEC3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07C-F3DA-4911-A911-47DCDD51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95A-1951-42BB-9C12-FE18DAB1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0C2-AE75-4179-AB0D-39D4B6D9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F29-4D37-4A38-9E19-5A0D0FFF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0C1-DF21-4B4B-8270-EDA19FDF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5BB0-6EDD-4AA5-B37D-B0D39F091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Explicitly Need from Families/Par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Explicitly Need from Stu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286000" y="1752480"/>
            <a:ext cx="4800600" cy="3962520"/>
          </a:xfrm>
          <a:prstGeom prst="hexagon">
            <a:avLst>
              <a:gd name="adj" fmla="val 30288"/>
              <a:gd name="vf" fmla="val 115470"/>
            </a:avLst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590920" y="551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689880" y="5442120"/>
            <a:ext cx="161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80880" y="3308400"/>
            <a:ext cx="16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8061480" y="3308400"/>
            <a:ext cx="10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276720" y="12952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030840" y="3352680"/>
            <a:ext cx="31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ULTURALLY RESPON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TEACHING AND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80880" y="6248520"/>
            <a:ext cx="2590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 Milner, PhD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7:55:16Z</dcterms:created>
  <dc:creator>milnerhr</dc:creator>
  <dc:description/>
  <dc:language>en-US</dc:language>
  <cp:lastModifiedBy>Milner, Rich</cp:lastModifiedBy>
  <dcterms:modified xsi:type="dcterms:W3CDTF">2013-02-15T13:56:10Z</dcterms:modified>
  <cp:revision>4</cp:revision>
  <dc:subject/>
  <dc:title>What do you Explicitly Need from Families/Parents?</dc:title>
</cp:coreProperties>
</file>